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7B2-0CA2-4A3F-9A11-D02C8792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AB2-F57E-40A3-9545-A5B2EA22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D33-420D-4753-B985-65350DC2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F71-A73F-46B0-B39F-A50D8749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35D-5C1A-405B-A169-1C1E1216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750-08B7-4D8C-81BD-E389FB86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6B8-0A0A-4873-8B98-2D0C1050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72D-68C9-4DA0-B0EA-A580BA40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059-CB50-4416-878C-13FE236A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D9D-BDD8-40E9-9023-C42AFD28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354-2D4D-47CC-9832-6D41DA7A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312-0CDF-43EE-AE50-1A85310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933C-424F-420A-9305-B3B772866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45640" y="1624320"/>
            <a:ext cx="73159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Дорогие ребята!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Если   вы   много   читаете,   смот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елевизор и  сидите  за  компьютером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т  этого  глаза сильно уст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Я покажу вам  специаль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глазную   гимнастику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от что посоветовал док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aptop"/>
          <p:cNvSpPr/>
          <p:nvPr/>
        </p:nvSpPr>
        <p:spPr>
          <a:xfrm>
            <a:off x="6156360" y="404640"/>
            <a:ext cx="2314440" cy="1656000"/>
          </a:xfrm>
          <a:custGeom>
            <a:avLst/>
            <a:gdLst>
              <a:gd name="textAreaLeft" fmla="*/ 476280 w 2314440"/>
              <a:gd name="textAreaRight" fmla="*/ 1855080 w 2314440"/>
              <a:gd name="textAreaTop" fmla="*/ 142200 h 1656000"/>
              <a:gd name="textAreaBottom" fmla="*/ 944640 h 165600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77000" y="409320"/>
            <a:ext cx="72644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 «Вращ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двигая головой, начинайте вращ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 сначала по часовой стрел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том в обратную стор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 раз ту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обрат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лу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то 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ам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оль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 закрыт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1"/>
          <p:cNvPicPr/>
          <p:nvPr/>
        </p:nvPicPr>
        <p:blipFill>
          <a:blip r:embed="rId2"/>
          <a:stretch/>
        </p:blipFill>
        <p:spPr>
          <a:xfrm>
            <a:off x="4932360" y="2708280"/>
            <a:ext cx="35892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75200" y="837000"/>
            <a:ext cx="4586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2. «Во все стор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 поворачивая голо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игайте глаз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верх-вни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право-вле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10- 15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2"/>
          <p:cNvPicPr/>
          <p:nvPr/>
        </p:nvPicPr>
        <p:blipFill>
          <a:blip r:embed="rId2"/>
          <a:stretch/>
        </p:blipFill>
        <p:spPr>
          <a:xfrm>
            <a:off x="5003640" y="2637000"/>
            <a:ext cx="352116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01760" y="766080"/>
            <a:ext cx="60814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3. «Пальчик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жмите палец к переносиц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смотрите на н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тем медленно отводите пал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т себя, продолж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едить за н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лаз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праж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8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ескольк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3"/>
          <p:cNvPicPr/>
          <p:nvPr/>
        </p:nvPicPr>
        <p:blipFill>
          <a:blip r:embed="rId2"/>
          <a:stretch/>
        </p:blipFill>
        <p:spPr>
          <a:xfrm>
            <a:off x="5219640" y="3068640"/>
            <a:ext cx="3268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02120" y="838080"/>
            <a:ext cx="6139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4. «Кто там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жмурьтесь посильнее, а за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широко откройте глаз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ловно 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му-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дивили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вто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108252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ещё раз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4"/>
          <p:cNvPicPr/>
          <p:nvPr/>
        </p:nvPicPr>
        <p:blipFill>
          <a:blip r:embed="rId2"/>
          <a:stretch/>
        </p:blipFill>
        <p:spPr>
          <a:xfrm>
            <a:off x="3635280" y="2924280"/>
            <a:ext cx="49132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74840" y="765720"/>
            <a:ext cx="42238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5. «Морг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моргайте, быстр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ильно сжим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е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 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ьш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5"/>
          <p:cNvPicPr/>
          <p:nvPr/>
        </p:nvPicPr>
        <p:blipFill>
          <a:blip r:embed="rId2"/>
          <a:stretch/>
        </p:blipFill>
        <p:spPr>
          <a:xfrm>
            <a:off x="3276720" y="2924280"/>
            <a:ext cx="52448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95280" y="-169200"/>
            <a:ext cx="779148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360" tIns="914040" bIns="457200" anchor="ctr">
            <a:spAutoFit/>
          </a:bodyPr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6. «С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А теперь закройте глаза и расслабьтесь, буд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бираетесь сп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думайте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ём-нибу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иятном.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32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6"/>
          <p:cNvPicPr/>
          <p:nvPr/>
        </p:nvPicPr>
        <p:blipFill>
          <a:blip r:embed="rId2"/>
          <a:stretch/>
        </p:blipFill>
        <p:spPr>
          <a:xfrm>
            <a:off x="5076720" y="2492280"/>
            <a:ext cx="34178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968400" y="1024560"/>
            <a:ext cx="713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рузья, берегите зрение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тогда вы сможете много 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 узнавать обо всём на св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j0240719"/>
          <p:cNvPicPr/>
          <p:nvPr/>
        </p:nvPicPr>
        <p:blipFill>
          <a:blip r:embed="rId2"/>
          <a:stretch/>
        </p:blipFill>
        <p:spPr>
          <a:xfrm>
            <a:off x="3564000" y="3429000"/>
            <a:ext cx="200340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24:27Z</dcterms:created>
  <dc:creator>Сергей</dc:creator>
  <dc:description/>
  <dc:language>en-US</dc:language>
  <cp:lastModifiedBy>Ксения Мичуева</cp:lastModifiedBy>
  <dcterms:modified xsi:type="dcterms:W3CDTF">2017-11-29T03:21:36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30000000000010250600207f5200358026400</vt:lpwstr>
  </property>
</Properties>
</file>