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F06-E818-4D92-8B7B-29ABEDF1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64D-78B3-4B3F-95E9-12353758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C01-31D4-4B6A-A132-72573C88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35B-AF43-42E8-88CC-5A889E08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A42-BB33-4426-ADDD-38278E7C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F83-2746-4EA8-AC0F-170DEBBE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391-C08F-4EBC-A03F-77551109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9A3-6CB8-4D3E-86FE-CCE47EED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2C5-3079-4D83-BDFA-304F5618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F12-7BE4-4447-9CFD-7ACE08EC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A3D-0560-4B89-BEDF-8A3CE93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BCC-E2BB-47A3-A4C5-55D61351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7BBD-541E-408E-9B31-7934AE106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45640" y="1624320"/>
            <a:ext cx="73159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Дорогие ребята!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Если   вы   много   читаете,   смот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елевизор и  сидите  за  компьютером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т  этого  глаза сильно у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Я покажу вам  специа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лазную   гимнастик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т что посоветовал до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aptop"/>
          <p:cNvSpPr/>
          <p:nvPr/>
        </p:nvSpPr>
        <p:spPr>
          <a:xfrm>
            <a:off x="6156360" y="404640"/>
            <a:ext cx="2314440" cy="1656000"/>
          </a:xfrm>
          <a:custGeom>
            <a:avLst/>
            <a:gdLst>
              <a:gd name="textAreaLeft" fmla="*/ 476280 w 2314440"/>
              <a:gd name="textAreaRight" fmla="*/ 1855080 w 2314440"/>
              <a:gd name="textAreaTop" fmla="*/ 142200 h 1656000"/>
              <a:gd name="textAreaBottom" fmla="*/ 944640 h 165600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77000" y="409320"/>
            <a:ext cx="7264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 «Вращ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игая головой, начинайте вращ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 сначала по часовой стрел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том в обратную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 раз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обра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у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то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а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закры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1"/>
          <p:cNvPicPr/>
          <p:nvPr/>
        </p:nvPicPr>
        <p:blipFill>
          <a:blip r:embed="rId2"/>
          <a:stretch/>
        </p:blipFill>
        <p:spPr>
          <a:xfrm>
            <a:off x="4932360" y="2708280"/>
            <a:ext cx="3589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75200" y="837000"/>
            <a:ext cx="4586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 «Во все стор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поворачивая гол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игайте глаз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рх-вни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право-вле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- 15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2"/>
          <p:cNvPicPr/>
          <p:nvPr/>
        </p:nvPicPr>
        <p:blipFill>
          <a:blip r:embed="rId2"/>
          <a:stretch/>
        </p:blipFill>
        <p:spPr>
          <a:xfrm>
            <a:off x="5003640" y="2637000"/>
            <a:ext cx="35211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01760" y="766080"/>
            <a:ext cx="6081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 «Пальчик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жмите палец к переносиц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мотрите на н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тем медленно отводите пал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 себя, продолж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едить за 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3"/>
          <p:cNvPicPr/>
          <p:nvPr/>
        </p:nvPicPr>
        <p:blipFill>
          <a:blip r:embed="rId2"/>
          <a:stretch/>
        </p:blipFill>
        <p:spPr>
          <a:xfrm>
            <a:off x="5219640" y="3068640"/>
            <a:ext cx="3268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2120" y="838080"/>
            <a:ext cx="6139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«Кто т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жмурьтесь посильнее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ироко откройте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овно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му-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див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щё раз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4"/>
          <p:cNvPicPr/>
          <p:nvPr/>
        </p:nvPicPr>
        <p:blipFill>
          <a:blip r:embed="rId2"/>
          <a:stretch/>
        </p:blipFill>
        <p:spPr>
          <a:xfrm>
            <a:off x="3635280" y="2924280"/>
            <a:ext cx="49132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74840" y="765720"/>
            <a:ext cx="4223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«Морг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моргайте, быстр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льно сжи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ьш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5"/>
          <p:cNvPicPr/>
          <p:nvPr/>
        </p:nvPicPr>
        <p:blipFill>
          <a:blip r:embed="rId2"/>
          <a:stretch/>
        </p:blipFill>
        <p:spPr>
          <a:xfrm>
            <a:off x="3276720" y="2924280"/>
            <a:ext cx="5244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95280" y="-169200"/>
            <a:ext cx="77914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360" tIns="914040" bIns="457200" anchor="ctr">
            <a:spAutoFit/>
          </a:bodyPr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«С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закройте глаза и расслабьтесь, буд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бираетесь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умайте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ём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ятном.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6"/>
          <p:cNvPicPr/>
          <p:nvPr/>
        </p:nvPicPr>
        <p:blipFill>
          <a:blip r:embed="rId2"/>
          <a:stretch/>
        </p:blipFill>
        <p:spPr>
          <a:xfrm>
            <a:off x="5076720" y="2492280"/>
            <a:ext cx="3417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68400" y="1024560"/>
            <a:ext cx="71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рузья, берегите зре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тогда вы сможете мног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узнавать обо всём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j0240719"/>
          <p:cNvPicPr/>
          <p:nvPr/>
        </p:nvPicPr>
        <p:blipFill>
          <a:blip r:embed="rId2"/>
          <a:stretch/>
        </p:blipFill>
        <p:spPr>
          <a:xfrm>
            <a:off x="3564000" y="3429000"/>
            <a:ext cx="20034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24:27Z</dcterms:created>
  <dc:creator>Сергей</dc:creator>
  <dc:description/>
  <dc:language>en-US</dc:language>
  <cp:lastModifiedBy>Ксения Мичуева</cp:lastModifiedBy>
  <dcterms:modified xsi:type="dcterms:W3CDTF">2017-11-29T03:21:3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30000000000010250600207f5200358026400</vt:lpwstr>
  </property>
</Properties>
</file>